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C4A85-5B31-4F22-B04C-481C345903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92F62-501E-44B8-A94F-D860DFC20C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03186-1524-436A-B3FC-4B624E4562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DF605-BD60-44CD-9A76-D58AB1CA27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CBC25-CB4C-4913-BE44-74CC918BB7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03BC4-3026-48A2-8437-A1C3BF8DCC1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3CB7F-8808-41AD-BA61-0E6A063AAB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68AF6-37BF-43BD-8055-679B4C85EB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1F4AC-A93A-493E-8189-A3870CA083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5D875-EAF3-4043-82EC-7A58672B79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jdelijke aanduiding voor koptekst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atum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voettekst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jdelijke aanduiding voor dianumm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B4A1D-FCC9-4190-8517-266876A1D7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927A-3E80-4F45-937D-0DE504FA7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617F-111E-4625-96F1-2778B9ACC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4B7B-F9C7-4F39-8F1F-5BD3302F1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F19E-6917-43A9-B52B-994C775A3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72C0-F263-4E4A-A515-28E2ACD644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9345-D4B3-4E36-BC1E-5383A43F74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5CC7-59A8-45AA-AD8E-4C83A517AF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626A-E49F-4CE7-9E9B-AE2930BEB4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7C61-A309-4B5B-B8DD-8E0CE0F2D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139F-A37A-4B92-BE9C-FB95F46FF6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E8AA-8065-4B60-B8C6-428B6F4C29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728F-B9C2-4DD6-8094-72FA51C80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FBEA-9B3E-4C5F-9A26-8047DD17E6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8AE2-7E30-49FC-B2EE-F3FB51C0D4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FFAA-476B-470F-BAB6-F41A9F2E8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0925-9706-4AD7-8F4C-603B8DFA74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C7CD-9AF2-4CFF-8A6B-34AAA9076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6E97-D8F6-45D5-9744-52E56A718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3959-660A-406E-9D3B-357CA2D89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BB2E-72EA-496B-8304-D83F9F993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D055-AB99-4A9D-AE1E-AF065FCEE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721A-43B7-4926-AAFF-52B830A9C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BF32-3527-42FB-8F4D-DAE287214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4925-F072-49A9-BA0D-758445F7E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2280" y="3104640"/>
            <a:ext cx="6208920" cy="2235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4ABB29-08DD-40BE-9C2A-F78A015391A8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0FCE18B5-29D2-4408-A7BC-BC369C87BA8F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1FA880-522B-4A7D-A1F7-B664A9CF3A0C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6A440325-796D-4462-894E-CEDECE4C175D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852640" y="3105000"/>
            <a:ext cx="6210360" cy="2237040"/>
          </a:xfrm>
          <a:prstGeom prst="rect">
            <a:avLst/>
          </a:prstGeom>
          <a:solidFill>
            <a:srgbClr val="ed0c8b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Meta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ERD2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27160" y="5886360"/>
            <a:ext cx="5416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20 ok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llen De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71680" y="1071720"/>
          <a:ext cx="4000320" cy="5416560"/>
        </p:xfrm>
        <a:graphic>
          <a:graphicData uri="http://schemas.openxmlformats.org/drawingml/2006/table">
            <a:tbl>
              <a:tblPr/>
              <a:tblGrid>
                <a:gridCol w="1215720"/>
                <a:gridCol w="2784600"/>
              </a:tblGrid>
              <a:tr h="39816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PLAATS heeft als hoofdadres NUMMERAANDUI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B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relatie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.10/58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identificatiecode nummeraanduiding waaronder het hoofdadres van een LIGPLAATS, dat in het kader van de basisregistratie gebouwen als zodanig is aangemerkt, is opgenomen in de basisregistratie adress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B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-04-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de BAG is dit gemodelleerd als het attribuutsoort ‘Aanduiding hoofdadres ligplaats’ bij het objecttype LIGPLAA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 is de tegenhanger van het relatiesoort NUMMERAANDUIDING is hoofdadres van LIGPLAA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soort maakt deel uit van de groepattribuutsoort BAG-gegevens. Zie verder de toelichtingen in de BAG bij beide attribuutsoort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els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86200" y="1000080"/>
          <a:ext cx="3857760" cy="5695920"/>
        </p:xfrm>
        <a:graphic>
          <a:graphicData uri="http://schemas.openxmlformats.org/drawingml/2006/table">
            <a:tbl>
              <a:tblPr/>
              <a:tblGrid>
                <a:gridCol w="1067040"/>
                <a:gridCol w="2790720"/>
              </a:tblGrid>
              <a:tr h="3906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MERAANDUIDING is hoofdadres van LIGPLA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relatie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LIGPLAATS waarbij de NUMMERAANDUIDING als onderdeel van het hoofdadres is opgenom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-04-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 is de tegenhanger van de attribuutsoort ‘Aanduiding hoofdadres ligplaats’ bij de LIGPLAATS in de BAG cq. van het relatiesoort LIGPLAATS heeft als hoofdadres NUMMERAANDUID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relatiesoort maakt deel uit van de groepattribuutsoort BAG-gegevens. Zie verder de toelichting in de BA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els relatie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  <a:tc>
                  <a:txBody>
                    <a:bodyPr lIns="42840" rIns="4284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ke nummeraanduiding heeft deze relatie dan wel precies één van de andere hoofd- of nevenadresrelaties naar een verblijfsobject, ligplaats of standplaats. Een nummeraanduiding kan dus slechts het hoofd- of het nevenadres zijn van een verblijfsobject dan wel een lig- of standplaa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itel 1"/>
          <p:cNvSpPr/>
          <p:nvPr/>
        </p:nvSpPr>
        <p:spPr>
          <a:xfrm>
            <a:off x="1643040" y="21420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Voorbeeld specificati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heen- en terugrelati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el 1"/>
          <p:cNvSpPr/>
          <p:nvPr/>
        </p:nvSpPr>
        <p:spPr>
          <a:xfrm>
            <a:off x="1643040" y="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Voorbeel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relatiesoort binn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groepattribuutsoor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49456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000080" y="447840"/>
            <a:ext cx="6043680" cy="7581600"/>
          </a:xfrm>
          <a:prstGeom prst="rect">
            <a:avLst/>
          </a:prstGeom>
          <a:ln w="0">
            <a:noFill/>
          </a:ln>
        </p:spPr>
      </p:pic>
      <p:sp>
        <p:nvSpPr>
          <p:cNvPr id="123" name="Ovaal 2"/>
          <p:cNvSpPr/>
          <p:nvPr/>
        </p:nvSpPr>
        <p:spPr>
          <a:xfrm>
            <a:off x="1500120" y="1643040"/>
            <a:ext cx="3714840" cy="3643200"/>
          </a:xfrm>
          <a:prstGeom prst="ellipse">
            <a:avLst/>
          </a:prstGeom>
          <a:solidFill>
            <a:srgbClr val="d9d9d9">
              <a:alpha val="54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Tagged value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28760" y="1193760"/>
            <a:ext cx="8429400" cy="5664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el 1"/>
          <p:cNvSpPr/>
          <p:nvPr/>
        </p:nvSpPr>
        <p:spPr>
          <a:xfrm>
            <a:off x="1285920" y="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Mapping informatie model items uit brondocumentati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op EA mod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3342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Is (hulp)middel voo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de omzetting van Word naar 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fstemming met NEN3610 informatiemode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afstemming met stelsel van basisregistra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uitwisselbaarheid met andere casetool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el 1"/>
          <p:cNvSpPr/>
          <p:nvPr/>
        </p:nvSpPr>
        <p:spPr>
          <a:xfrm>
            <a:off x="2071800" y="14292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otivatie </a:t>
            </a:r>
            <a:r>
              <a:rPr b="1" lang="nl-NL" sz="2400" spc="-1" strike="noStrike">
                <a:solidFill>
                  <a:srgbClr val="ed0c8b"/>
                </a:solidFill>
                <a:latin typeface="Verdana"/>
              </a:rPr>
              <a:t>ERD2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ed0c8b"/>
                </a:solidFill>
                <a:latin typeface="Verdana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06720" y="1606680"/>
          <a:ext cx="4929120" cy="2365200"/>
        </p:xfrm>
        <a:graphic>
          <a:graphicData uri="http://schemas.openxmlformats.org/drawingml/2006/table">
            <a:tbl>
              <a:tblPr/>
              <a:tblGrid>
                <a:gridCol w="49291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Uitgangspun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Metamodel ERD2U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8436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1:1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specificaties (=tekst) als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‘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eigen’ interpretatie van specificaties vermij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géén inhoudelijke wijzigingen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  <a:ea typeface="Arial Unicode MS"/>
              </a:rPr>
              <a:t>behoud van alle modelinform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onderscheid in presentatie (catalogus) 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  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registratie (EA)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	</a:t>
            </a:r>
            <a:r>
              <a:rPr b="0" lang="nl-NL" sz="2300" spc="-1" strike="noStrike">
                <a:solidFill>
                  <a:srgbClr val="da5c21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Verdan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Uitgang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conver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39640" y="260280"/>
            <a:ext cx="1008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Inhoudsop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06720" y="1606680"/>
          <a:ext cx="4929120" cy="2365200"/>
        </p:xfrm>
        <a:graphic>
          <a:graphicData uri="http://schemas.openxmlformats.org/drawingml/2006/table">
            <a:tbl>
              <a:tblPr/>
              <a:tblGrid>
                <a:gridCol w="49291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Uitgangspun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da5c21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da5c21"/>
                          </a:solidFill>
                          <a:latin typeface="Verdana"/>
                          <a:ea typeface="Calibri"/>
                        </a:rPr>
                        <a:t>Metamodel ERD2U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14200" y="1238400"/>
          <a:ext cx="4429080" cy="5619600"/>
        </p:xfrm>
        <a:graphic>
          <a:graphicData uri="http://schemas.openxmlformats.org/drawingml/2006/table">
            <a:tbl>
              <a:tblPr/>
              <a:tblGrid>
                <a:gridCol w="1351080"/>
                <a:gridCol w="3078000"/>
              </a:tblGrid>
              <a:tr h="502920">
                <a:tc gridSpan="2"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type NATUURLIJK PERSO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epattribuutsoort Persoonsgegev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onsgegev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attribuut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gevens over de NATUURLIJK PERS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april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betreft een groepattribuutsoort dat bestaat uit de volgende (groep)attribuutsoorte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2 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4.10 Geslachtsaandui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61.10 Aanduiding naam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3 Gebo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1 Ingeschreven persoon . Identificatienummers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is ontleend aan categorie 01 in de GBA. Zie verder de toelichting in de GB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6200" y="1285920"/>
          <a:ext cx="4357800" cy="4071960"/>
        </p:xfrm>
        <a:graphic>
          <a:graphicData uri="http://schemas.openxmlformats.org/drawingml/2006/table">
            <a:tbl>
              <a:tblPr/>
              <a:tblGrid>
                <a:gridCol w="1139760"/>
                <a:gridCol w="3218040"/>
              </a:tblGrid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materië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forme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gebeurte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bron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: AkteGemeente, Documentidentificatie, Documentgemeente, Documentdatum, Documentbeschrijving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in onderzo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strijdigheid/nietigh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kardinalite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authenti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et authentiek landelijk basisgegeven indien het een ingeschreven persoon betreft, anders een gemeentelijk basisgegev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itel 1"/>
          <p:cNvSpPr/>
          <p:nvPr/>
        </p:nvSpPr>
        <p:spPr>
          <a:xfrm>
            <a:off x="2000160" y="28584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Voorbeeld specificati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100" spc="-1" strike="noStrike">
                <a:solidFill>
                  <a:srgbClr val="ed0c8b"/>
                </a:solidFill>
                <a:latin typeface="Verdana"/>
              </a:rPr>
              <a:t>groepattribu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14200" y="1238400"/>
          <a:ext cx="4429080" cy="5619600"/>
        </p:xfrm>
        <a:graphic>
          <a:graphicData uri="http://schemas.openxmlformats.org/drawingml/2006/table">
            <a:tbl>
              <a:tblPr/>
              <a:tblGrid>
                <a:gridCol w="1351080"/>
                <a:gridCol w="3078000"/>
              </a:tblGrid>
              <a:tr h="502920">
                <a:tc gridSpan="2"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epattribuutsoort Persoonsgegev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onsgegev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attribuut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gevens over de NATUURLIJK PERS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april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betreft een groepattribuutsoort dat bestaat uit de volgende (groep)attribuutsoorte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2 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4.10 Geslachtsaandui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61.10 Aanduiding naam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3 Gebo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1 Ingeschreven persoon . Identificatienummers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is ontleend aan categorie 01 in de GBA. Zie verder de toelichting in de GB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6200" y="1285920"/>
          <a:ext cx="4357800" cy="4071960"/>
        </p:xfrm>
        <a:graphic>
          <a:graphicData uri="http://schemas.openxmlformats.org/drawingml/2006/table">
            <a:tbl>
              <a:tblPr/>
              <a:tblGrid>
                <a:gridCol w="1139760"/>
                <a:gridCol w="3218040"/>
              </a:tblGrid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materië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formele histo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gebeurte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bron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: AkteGemeente, Documentidentificatie, Documentgemeente, Documentdatum, Documentbeschrijving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in onderzo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nduiding strijdigheid/nietighe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 indien het een INGESCHREVEN PERSOON betreft, anders: N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kardinalite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ie authenti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45000" rIns="45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et authentiek landelijk basisgegeven indien het een ingeschreven persoon betreft, anders een gemeentelijk basisgegev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d9d9d9"/>
                      </a:solidFill>
                    </a:lnL>
                    <a:lnR w="5760">
                      <a:solidFill>
                        <a:srgbClr val="d9d9d9"/>
                      </a:solidFill>
                    </a:lnR>
                    <a:lnT w="5760">
                      <a:solidFill>
                        <a:srgbClr val="d9d9d9"/>
                      </a:solidFill>
                    </a:lnT>
                    <a:lnB w="5760">
                      <a:solidFill>
                        <a:srgbClr val="d9d9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786200" y="1071720"/>
          <a:ext cx="4103640" cy="4308480"/>
        </p:xfrm>
        <a:graphic>
          <a:graphicData uri="http://schemas.openxmlformats.org/drawingml/2006/table">
            <a:tbl>
              <a:tblPr/>
              <a:tblGrid>
                <a:gridCol w="1252800"/>
                <a:gridCol w="2850840"/>
              </a:tblGrid>
              <a:tr h="279360">
                <a:tc gridSpan="2"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groepattribuutsoort Na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 attribuutso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gevens over de naam van de natuurlijk pers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5368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rkomst definiti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NG op basis van G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0140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opname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april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467360"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elichting attribuutso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8240" rIns="482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betreft een groepattribuutsoort dat bestaat uit de volgende attribuutsoorte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na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llijke titel/predik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voegsels geslachtsna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lachtsnaa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 attribuutsoort maakt deel uit van het groepattribuutsoort Persoonsgegevens. .Zie verder de toelichting in de GB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e6e6e6"/>
                      </a:solidFill>
                    </a:lnR>
                    <a:lnT w="5760">
                      <a:solidFill>
                        <a:srgbClr val="e6e6e6"/>
                      </a:solidFill>
                    </a:lnT>
                    <a:lnB w="5760">
                      <a:solidFill>
                        <a:srgbClr val="e6e6e6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10" name="Ovaal 4"/>
          <p:cNvSpPr/>
          <p:nvPr/>
        </p:nvSpPr>
        <p:spPr>
          <a:xfrm>
            <a:off x="714240" y="5286240"/>
            <a:ext cx="3272040" cy="214560"/>
          </a:xfrm>
          <a:prstGeom prst="ellipse">
            <a:avLst/>
          </a:prstGeom>
          <a:solidFill>
            <a:srgbClr val="c2fff0">
              <a:alpha val="62000"/>
            </a:srgbClr>
          </a:solidFill>
          <a:ln w="38160">
            <a:solidFill>
              <a:srgbClr val="fe1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Rechte verbindingslijn met pijl 6"/>
          <p:cNvCxnSpPr/>
          <p:nvPr/>
        </p:nvCxnSpPr>
        <p:spPr>
          <a:xfrm flipV="1">
            <a:off x="3857760" y="4428360"/>
            <a:ext cx="1000800" cy="857880"/>
          </a:xfrm>
          <a:prstGeom prst="straightConnector1">
            <a:avLst/>
          </a:prstGeom>
          <a:ln w="38160">
            <a:solidFill>
              <a:srgbClr val="fe1a02"/>
            </a:solidFill>
            <a:miter/>
            <a:tailEnd len="med" type="arrow" w="med"/>
          </a:ln>
        </p:spPr>
      </p:cxnSp>
      <p:sp>
        <p:nvSpPr>
          <p:cNvPr id="112" name="Titel 1"/>
          <p:cNvSpPr/>
          <p:nvPr/>
        </p:nvSpPr>
        <p:spPr>
          <a:xfrm>
            <a:off x="1357200" y="214200"/>
            <a:ext cx="65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Voorbeeld groepattribuu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omvat  </a:t>
            </a:r>
            <a:r>
              <a:rPr b="1" lang="nl-NL" sz="1900" spc="-1" strike="noStrike">
                <a:solidFill>
                  <a:srgbClr val="ed0c8b"/>
                </a:solidFill>
                <a:latin typeface="Verdana"/>
              </a:rPr>
              <a:t>1 of meer </a:t>
            </a:r>
            <a:r>
              <a:rPr b="1" lang="nl-NL" sz="2900" spc="-1" strike="noStrike">
                <a:solidFill>
                  <a:srgbClr val="ed0c8b"/>
                </a:solidFill>
                <a:latin typeface="Verdana"/>
              </a:rPr>
              <a:t>subgroepattribu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2071800" y="272880"/>
            <a:ext cx="661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Metamodel ERD2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ed0c8b"/>
                </a:solidFill>
                <a:latin typeface="Verdana"/>
              </a:rPr>
              <a:t>op hoofdlij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57208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Arjan Kloosterboer</dc:creator>
  <dc:description/>
  <dc:language>en-US</dc:language>
  <cp:lastModifiedBy>Debat_E</cp:lastModifiedBy>
  <dcterms:modified xsi:type="dcterms:W3CDTF">2010-10-15T08:34:41Z</dcterms:modified>
  <cp:revision>410</cp:revision>
  <dc:subject/>
  <dc:title>Metamodel ERD2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